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036440" y="712800"/>
            <a:ext cx="50022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708120" y="4457520"/>
            <a:ext cx="56592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dt" idx="52"/>
          </p:nvPr>
        </p:nvSpPr>
        <p:spPr>
          <a:xfrm>
            <a:off x="400536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ftr" idx="53"/>
          </p:nvPr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 type="sldNum" idx="54"/>
          </p:nvPr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1F532-2AB0-4AFE-A04E-57741E6F6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BF95F-5D4D-41F4-BADD-50DC7A8E3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89F56-8198-4FF9-8627-85A9BED42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5B744-7C7C-40CE-B4A2-30E611231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BFBA7-C173-48F6-9D37-4F0824194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92505-618E-40C7-9FAE-54DC4CF84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96EB0-6E72-4CC9-B380-34EC262C5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4E9C4-5E03-4444-A3D8-9967F65CE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ECE38-97D9-48C2-9A4E-E2F899689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12BF9-918D-4711-9021-F2232C618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943E6-1718-4F08-A14E-EC32C21C6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459A8-1D47-4A27-8E78-A54CCB331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9FDFA-AE78-4A69-BA04-70C36A68A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52BEE-903B-4095-9F7B-091E13728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9A18D-1989-4FB3-8BB3-AEFBB1C36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71E-D6D6-4724-A108-0B71B935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723-8835-45C9-99C4-E8CAC80D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09622-1C35-40D0-AEB7-6E313DF9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CA24B-483D-4A82-8E00-56E23EC4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81549-0DAF-4D14-B1B3-54255154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8C682-0B1D-4072-89F5-0DBC68A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4911B-4C86-496D-9A50-3DF7A077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080B8-F0A0-428A-99DB-8F2CF9A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0AF55-A85E-48D2-AC15-6D046D6C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5C3C7-E07D-4509-A99C-E71540F8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87A8B-3D86-4F42-91A2-723DB63B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B24A4-C8E8-4D3B-9AED-DDA92E42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B8B-9296-4C2E-8849-D436BCEE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7A39B-BB41-4922-8D70-B20719B2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CBB8F-FAC6-47F4-86A8-6C80D897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CA203-426C-43C3-81CE-01FFBDE1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22434-9511-4E43-982B-1C5448A4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847C6-0911-43E7-AC5A-35C231D4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58552-FDF9-4A86-A054-AA28C6DC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F2B07-98E5-4E47-AA67-DBE5C8DA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DD143-7D0A-4F6F-A723-80F85289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6AFE1-6013-4F44-84CE-23F477CE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08FD6-6E8F-4049-A059-E5941D48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456-4566-4C6F-AA50-8E4318A0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0F975-660F-406B-AD2D-D568BA72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E029C-F494-4D2F-A09A-2A49A2ED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030B0-B6D7-4619-A5F4-1079E8BC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6A70D-347F-4679-87C9-D3654651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E3A2C-A1B1-4287-A5D2-96E66650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7DB27-A33C-41EC-829B-A040B9ED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3C2F9-2E7B-44B1-9024-F60A9CE6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B33BE-F1DD-4093-8057-0974FC83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D23A6-9EFB-4107-96E2-D66182B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C9445-376D-4AD7-88A7-A01FCBB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015B-D32C-42C5-82D6-23C7558B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6DEC8-78EC-4152-B581-BA5B7ED5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F0C41-08BA-4AE8-B9D5-48AD76F1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47A62-F6F6-40B6-AF7A-EFE40522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70737-8C0A-474D-ACEF-B0587019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74A5D-3A01-4544-820C-C41AF190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5C367-62D5-41DD-AC7A-2956EAB1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6307D-FA72-4784-9B5D-6E647095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9514B-3427-4E60-B2FC-C70C0249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4833D-4C30-4C06-B023-CB307F57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0C589-2A55-4C21-9986-2818D54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93DB-F6B5-467D-80E0-B402DDF6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38667-338F-4B82-BF4C-2AF6A18E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79F06-BA6D-4A8C-8F7F-C9BDAAA9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A5863-C341-4784-AC00-CB1E99E0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BF4BA-1423-4F14-A6F1-8339C2B3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BBE6D-1724-4955-AEE5-4FCD8789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27591-E032-4125-ADD1-EF837DBE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2299A-57F5-4E69-B532-8A4B774B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51AA5-B0C1-48E9-B34A-41C64A96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C95BF-B87A-4CD0-926F-55A04D64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272D5-96F7-45F1-BD6B-4D5AF85E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86DD-2626-429C-9E11-1BA41F66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C0C1E-81F8-4845-AAED-25A14233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AAD97-945A-49B9-AE3B-5B3DDB7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3B3CE-4094-4D89-ACEA-93CE96B9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6CA52-E57F-4A09-BD4A-305616A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DD3FA-2506-4A55-9F79-F971F5B8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4603C-594B-4B92-A211-E3A93ACA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1118B-6CA8-4550-B52E-F65DAA73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0AC91-E948-4BFB-B549-B6E36794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7F122-0306-412D-BA8F-C6D0CDD7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05A3E-FA8F-4DC1-B792-60BF231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20B4-2610-42BB-A995-C5916881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5939B-8AC5-4926-8AE4-8BCA6D3D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8786B-38C5-4263-A1FC-1E4E7ADF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AA487-05C4-4479-8EF6-0F7A4B78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B7171-CFD6-4A53-A97C-959A4794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D0DE7-1AAA-40ED-ACB5-18B9639A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EC23E-BA03-4720-B457-9259FFEE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CC43B-4E12-4812-AE6A-37253FBB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B4B3B-11F3-4685-81E3-6FF1A45D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6F6FB-F7C7-4167-A75A-7294C654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A6D1E-31CE-48F2-A4BE-615BD334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F830-76A9-4D91-BFBE-6C1977EB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20746-ED67-4B11-B957-00DDADE0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15AD6-2233-43EC-89E3-12F48FBA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0A7A4-93BD-4A67-AA08-778B9C9A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50A9A-5F46-43C8-AF18-D002270D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5D0A6-ED33-466A-8AE2-5DBCDEDB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D71F3-3A5A-4B11-90B0-D86E533C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4FF69-E28A-4127-A4FF-0DACC0F7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C0480-F315-435B-9CB4-FBFA12F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60298-672C-48EF-A682-BBA86A08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85DE9-1198-43EF-A3A8-BBC7A661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1375-4AEF-4AE8-8C2A-FC61F6D0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78D97-72C3-4079-BC75-E9D06F3E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D3532-B601-4859-A05D-47DCB443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EFA0F-56F3-4B02-945A-3E8896E6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C4BC4-97CF-41F7-A288-759EF24B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142E9-4C9B-45FA-8ED3-885579B5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27F50-B03F-4A9D-8F79-0F31C82F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1FF29-D8F7-4B4E-BA99-967E880E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D93B2-77AF-4072-A923-8BCBED73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065B4-172D-45FC-9830-05D0305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895B9-ECDC-4B1F-8B45-2D1EDDCA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D538-4905-4F95-803E-878E97B0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331A6-7DAF-49EE-8241-CC8567A0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E539F-694C-4AE6-BD77-64A7BE05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BBE1B-0BC8-4486-B3C4-71C32BB5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7A0E5-2219-4DA4-AAF7-29CE8CEC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42A36-22C9-4519-87E5-7E0ACE67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54CAE-4E2C-433E-9189-34CFFD9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5617D-411C-434D-BB47-66C27394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53794-6116-4AA7-ACF3-3102FDF7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C7AFC-F480-4904-AE3A-B9DC20C4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A3F677-06CB-4807-A68B-2BD17773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27E-C2D5-4081-830E-8230A5C4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059C-D3A6-4120-82B1-EC75BF27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BAFDC-571A-4DF9-8C35-BB05A1E6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AD16B1-DE05-40B1-ABC5-FABA161F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794CC-37A2-478D-A093-7742EB1A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E27E8-AFE5-4C6D-999E-4FEB4995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0F573-FB95-441F-AC4B-C028AB01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F967-4127-4D8D-9E07-3AD43873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1609-31F2-4862-8ED1-34AE3C76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FC9F-D1FB-46AA-BD54-C7C45D3D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F261-0A23-4A0A-ACEF-AD5DC9C0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A3F1-088D-4E14-8649-0202E020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8F2B-1E95-4DAE-AE51-BA839E36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F631-5256-42A4-A41E-D005E526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187D-5B25-4C23-A024-64558B8E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6F04-D6F5-4DFB-86D7-5410465E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1B6-CA3A-4B3E-9D52-A68FB842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58485-7870-475E-99DF-1451208E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0006-47BD-4685-B004-8419EBB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31A6-5614-42D5-839A-FF76C12D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F0F0-400D-4824-95D9-95E221BB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E6F1-000A-4611-BC87-211FCEF8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D8E4-3AB5-408A-AF90-930707E9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D330-7348-4654-9E5A-42253FB1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2918-C247-4B29-B5D0-613EB5C7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3CC2-C712-455A-8DEC-BC57B003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D0352-1BC4-4D4A-A132-1F928E1D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A96-DF04-47E0-9C57-BE91D3E4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75C13-3A00-407A-AC18-0BB71709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3564-9979-4437-A977-F8A0588D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1FAA-BF33-42DF-958B-B58B6FA0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540F1-607E-45D7-9F94-91B4B106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7FEF-70F6-4CE9-BD9D-D6446918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C73B-03BC-4C7B-9155-704CCA4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D49C1-A9B6-4C13-89DA-C6E001A8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CB461-5DAC-4478-9D74-5166BD2A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E2E9B-DB36-4B09-A884-40917DC3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9E909-B654-4E88-83B3-94CE7E53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05A-6FCE-46C9-8B74-8B6B7200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CD00-031B-4121-BA94-6EE68278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B6E3-CB33-497C-BFF0-791E04B3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2D7A7-CC08-4181-AD04-A493B965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2B105-247A-4001-8E53-288A85F2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4E20C-A1BC-43CF-B931-392BD6E9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5655F-8A88-4DD1-9479-C280D930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255ED-63AB-4D8E-B50E-21A9E40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9F06D-0CC3-49F4-A3A4-BA35424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41200-1476-477E-9718-64186745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3614-9B5D-4AE7-854E-F4077BFC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4E6-1E62-4C31-A12D-743C0AD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125B2-79F1-4554-A225-E8B30367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30EDF-92EC-4DFF-9056-45C744BC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69EE3-EDD7-40E8-B273-4067CB98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1186-53A4-4053-80FA-51D667EE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DA279-F913-4CD6-ABAE-E08188D2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9B698-686A-4C56-8CB1-A397059E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F6A04-1031-4C26-A26C-F4E14678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DAD8-8FBC-420E-BCC3-7B40B16C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5C9AA-A6D4-4B67-9CEC-6E1CC9AB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29D0-C157-4672-92BC-BC97D09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090-E11D-4784-9F00-3A47A900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3413-29F1-42B6-B3DE-20B69549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67A08-09FD-4E54-BAA9-63B64288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E0EC8-91A8-4E60-910C-F368B228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26CC8-0AF5-45D3-A5BF-A2293CCD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0756F-5209-4333-94DB-05259EEF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E5778-51D0-47E3-AECE-55FE21A1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28598-AB67-400E-A63B-DEB7F8A3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17EAF-8B5F-49D2-8B28-778CB9B9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708A3-1984-434E-AB4E-7D8B7386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EEBC6-7001-46D9-AB1E-ED880A5D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A9B-F986-4E49-8005-A11D990A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E59F0-56DD-4681-8607-EEFCA24A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BFD16-7FDA-4FF5-9724-717229C6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14A7-3F29-4484-B0B0-7C5CF4CE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A091B-D6CA-4B77-9B3A-1A1B17F7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F82AE-FF75-47CA-A082-DC9AD63C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CA299-EAC5-449C-953C-2B1A1A99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74CBF-AA21-450E-8795-ED1E72FD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37889-474B-473E-ADAB-A6CA11B6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EE959-5434-4748-9549-2FD27827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1DF2C-91DC-4C0B-A57F-BF8710F7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170-EC53-43CD-8CF3-C07A659A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A19C-177A-427E-BE55-5D3F7F4A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47556-D903-43A9-802F-D95FE1A3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0BB24-2E8C-43AA-8F51-4CE1C30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55E88-9EFA-48B1-87B0-614CEB11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14E1A-6F01-432E-B73D-450746C7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B7380-2179-4989-B6E3-BCDD9E83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BD0A1-E0D1-4A98-8672-EA03AD65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1AF31-A9BD-4A8E-9D18-33D881B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2F9E9-EAF1-4734-B22F-9C80753D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80452-521E-4E8A-B386-84DA4F25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4960" y="5631480"/>
                <a:ext cx="105840" cy="1076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AA43F-6EF3-4D6F-A809-BDF3FE7E655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7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28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29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82595-176D-459A-9FA9-F6E386D30100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C6B35-0BFF-479F-B778-1F188FB9596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34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35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36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8496-98B9-475F-AF2A-4902B528ABFD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7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8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9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Perpetua Titling MT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404A-E116-4CF6-AA73-621FD836554B}" type="slidenum">
              <a:rPr b="0" lang="en-US" sz="3600" spc="-1" strike="noStrike">
                <a:solidFill>
                  <a:srgbClr val="ffffff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18B6C-ABDC-47CC-AA1D-12D2903116F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4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5A294-C20A-4444-8CE6-FD1BB1BF62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4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4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4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B7C8D-A569-4C65-90B4-E779F11A0CE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49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5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5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23B32-507F-4540-B6E7-68B7AA4AE10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4960" y="5631480"/>
                <a:ext cx="105840" cy="1076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2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31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A282A-55C3-4539-9F26-C85AE75B13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BC6AB-2E2B-4BE9-A7DB-EA71E5515531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A8AB6-500A-4154-BFDC-7016818EB9E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E5F2F-9C8F-4351-8C6E-5CA1296165D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48FB2-DC7C-4A71-9DBC-E0B5172C70A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5ABA3-6FFC-4967-8DCE-6F018CD54F4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98CE6-4309-4424-B6CA-8AADB8949F3B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715BD-A3C1-44F6-917D-D6F9EB8B49D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image" Target="../media/image6.png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121608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hapter 4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 Momentum and Collision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15050-DCD6-4CF5-8993-40C6AB770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 who wins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07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AD20C-E605-4AFB-A374-92CA5ACF7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1784880" y="209232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"/>
          <p:cNvSpPr/>
          <p:nvPr/>
        </p:nvSpPr>
        <p:spPr>
          <a:xfrm>
            <a:off x="2886480" y="320040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remove" presetClass="emph" presetID="6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remove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AD654-2030-4878-AB08-E15055188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861CD-3B77-46C1-96D5-2EE2D71C4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5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220" dur="5000" fill="hold"/>
                                        <p:tgtEl>
                                          <p:spTgt spid="1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229" dur="500" fill="hold"/>
                                        <p:tgtEl>
                                          <p:spTgt spid="1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233" dur="5000" fill="hold"/>
                                        <p:tgtEl>
                                          <p:spTgt spid="1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1047E-006 1.51796E-006 L 1.47316 -0.01344 E">
                                      <p:cBhvr>
                                        <p:cTn id="235" dur="500" fill="hold"/>
                                        <p:tgtEl>
                                          <p:spTgt spid="1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DF1B6-291E-4314-A21B-C932784A6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E102D-240C-4ECE-8635-D687A047C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22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4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2"/>
          <p:cNvSpPr/>
          <p:nvPr/>
        </p:nvSpPr>
        <p:spPr>
          <a:xfrm>
            <a:off x="2743920" y="1905120"/>
            <a:ext cx="421920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O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r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Time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 Box 2"/>
          <p:cNvSpPr/>
          <p:nvPr/>
        </p:nvSpPr>
        <p:spPr>
          <a:xfrm>
            <a:off x="1721880" y="2590920"/>
            <a:ext cx="605880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a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Attenti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 Box 2"/>
          <p:cNvSpPr/>
          <p:nvPr/>
        </p:nvSpPr>
        <p:spPr>
          <a:xfrm>
            <a:off x="1212120" y="4876920"/>
            <a:ext cx="7158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Now Watc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2"/>
          <p:cNvSpPr/>
          <p:nvPr/>
        </p:nvSpPr>
        <p:spPr>
          <a:xfrm>
            <a:off x="1212120" y="4846680"/>
            <a:ext cx="7158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Now Watc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246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1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254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6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1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275" dur="5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2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289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250" autoRev="1" fill="hold"/>
                                        <p:tgtEl>
                                          <p:spTgt spid="1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293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29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298" dur="500" fill="hold"/>
                                        <p:tgtEl>
                                          <p:spTgt spid="1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302" dur="5000" fill="hold"/>
                                        <p:tgtEl>
                                          <p:spTgt spid="1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1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1047E-006 1.51796E-006 L 1.47316 -0.01344 E">
                                      <p:cBhvr>
                                        <p:cTn id="318" dur="500" fill="hold"/>
                                        <p:tgtEl>
                                          <p:spTgt spid="1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o wins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3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4B29F-F752-48B8-B7B6-7F395C289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2"/>
          <p:cNvSpPr/>
          <p:nvPr/>
        </p:nvSpPr>
        <p:spPr>
          <a:xfrm>
            <a:off x="1533960" y="356544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3"/>
          <p:cNvSpPr/>
          <p:nvPr/>
        </p:nvSpPr>
        <p:spPr>
          <a:xfrm>
            <a:off x="2810160" y="469116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4"/>
          <p:cNvSpPr/>
          <p:nvPr/>
        </p:nvSpPr>
        <p:spPr>
          <a:xfrm>
            <a:off x="673920" y="237024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4"/>
          <p:cNvSpPr/>
          <p:nvPr/>
        </p:nvSpPr>
        <p:spPr>
          <a:xfrm>
            <a:off x="3304800" y="1447920"/>
            <a:ext cx="26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Equa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4"/>
          <p:cNvSpPr/>
          <p:nvPr/>
        </p:nvSpPr>
        <p:spPr>
          <a:xfrm>
            <a:off x="3371040" y="3886200"/>
            <a:ext cx="243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im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4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00243 -0.34445 E">
                                      <p:cBhvr>
                                        <p:cTn id="361" dur="2000" fill="hold"/>
                                        <p:tgtEl>
                                          <p:spTgt spid="1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322"/>
                            </p:stCondLst>
                            <p:childTnLst>
                              <p:par>
                                <p:cTn id="380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33333E-006 L -0.00277 -0.1743 E">
                                      <p:cBhvr>
                                        <p:cTn id="381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322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51365-F755-4246-8399-F3E4487D8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Text Box 2"/>
          <p:cNvSpPr/>
          <p:nvPr/>
        </p:nvSpPr>
        <p:spPr>
          <a:xfrm>
            <a:off x="3000240" y="1730520"/>
            <a:ext cx="314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m 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3"/>
          <p:cNvSpPr/>
          <p:nvPr/>
        </p:nvSpPr>
        <p:spPr>
          <a:xfrm>
            <a:off x="2803680" y="1889280"/>
            <a:ext cx="362736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2160000" y="3124080"/>
            <a:ext cx="45316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Unit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kg-m/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4"/>
          <p:cNvSpPr/>
          <p:nvPr/>
        </p:nvSpPr>
        <p:spPr>
          <a:xfrm>
            <a:off x="673920" y="-3348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 Box 2"/>
          <p:cNvSpPr/>
          <p:nvPr/>
        </p:nvSpPr>
        <p:spPr>
          <a:xfrm>
            <a:off x="2211120" y="5105520"/>
            <a:ext cx="436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Vecto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33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DAAFE-8E7B-4265-8C48-9891D4DC9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2"/>
          <p:cNvSpPr/>
          <p:nvPr/>
        </p:nvSpPr>
        <p:spPr>
          <a:xfrm>
            <a:off x="1584000" y="152388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3"/>
          <p:cNvSpPr/>
          <p:nvPr/>
        </p:nvSpPr>
        <p:spPr>
          <a:xfrm>
            <a:off x="1098720" y="3581280"/>
            <a:ext cx="682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Group 2"/>
          <p:cNvGrpSpPr/>
          <p:nvPr/>
        </p:nvGrpSpPr>
        <p:grpSpPr>
          <a:xfrm>
            <a:off x="-2133720" y="4648320"/>
            <a:ext cx="1827000" cy="1369440"/>
            <a:chOff x="-2133720" y="4648320"/>
            <a:chExt cx="1827000" cy="1369440"/>
          </a:xfrm>
        </p:grpSpPr>
        <p:pic>
          <p:nvPicPr>
            <p:cNvPr id="1037" name="Picture 3" descr=""/>
            <p:cNvPicPr/>
            <p:nvPr/>
          </p:nvPicPr>
          <p:blipFill>
            <a:blip r:embed="rId1"/>
            <a:stretch/>
          </p:blipFill>
          <p:spPr>
            <a:xfrm>
              <a:off x="-2133720" y="4648320"/>
              <a:ext cx="182700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4" descr=""/>
            <p:cNvPicPr/>
            <p:nvPr/>
          </p:nvPicPr>
          <p:blipFill>
            <a:blip r:embed="rId2"/>
            <a:stretch/>
          </p:blipFill>
          <p:spPr>
            <a:xfrm>
              <a:off x="-205740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Picture 5" descr=""/>
            <p:cNvPicPr/>
            <p:nvPr/>
          </p:nvPicPr>
          <p:blipFill>
            <a:blip r:embed="rId3"/>
            <a:stretch/>
          </p:blipFill>
          <p:spPr>
            <a:xfrm>
              <a:off x="-83808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0" name="Group 6"/>
          <p:cNvGrpSpPr/>
          <p:nvPr/>
        </p:nvGrpSpPr>
        <p:grpSpPr>
          <a:xfrm>
            <a:off x="-2286000" y="2057400"/>
            <a:ext cx="1712880" cy="1712880"/>
            <a:chOff x="-2286000" y="2057400"/>
            <a:chExt cx="1712880" cy="1712880"/>
          </a:xfrm>
        </p:grpSpPr>
        <p:pic>
          <p:nvPicPr>
            <p:cNvPr id="1041" name="Picture 7" descr=""/>
            <p:cNvPicPr/>
            <p:nvPr/>
          </p:nvPicPr>
          <p:blipFill>
            <a:blip r:embed="rId4"/>
            <a:stretch/>
          </p:blipFill>
          <p:spPr>
            <a:xfrm>
              <a:off x="-2286000" y="205740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Picture 8" descr=""/>
            <p:cNvPicPr/>
            <p:nvPr/>
          </p:nvPicPr>
          <p:blipFill>
            <a:blip r:embed="rId5"/>
            <a:stretch/>
          </p:blipFill>
          <p:spPr>
            <a:xfrm>
              <a:off x="-2209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Picture 9" descr=""/>
            <p:cNvPicPr/>
            <p:nvPr/>
          </p:nvPicPr>
          <p:blipFill>
            <a:blip r:embed="rId6"/>
            <a:stretch/>
          </p:blipFill>
          <p:spPr>
            <a:xfrm>
              <a:off x="-1066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4" name="Group 2"/>
          <p:cNvGrpSpPr/>
          <p:nvPr/>
        </p:nvGrpSpPr>
        <p:grpSpPr>
          <a:xfrm>
            <a:off x="-2133720" y="4648320"/>
            <a:ext cx="1827000" cy="1369440"/>
            <a:chOff x="-2133720" y="4648320"/>
            <a:chExt cx="1827000" cy="1369440"/>
          </a:xfrm>
        </p:grpSpPr>
        <p:pic>
          <p:nvPicPr>
            <p:cNvPr id="1045" name="Picture 3" descr=""/>
            <p:cNvPicPr/>
            <p:nvPr/>
          </p:nvPicPr>
          <p:blipFill>
            <a:blip r:embed="rId7"/>
            <a:stretch/>
          </p:blipFill>
          <p:spPr>
            <a:xfrm>
              <a:off x="-2133720" y="4648320"/>
              <a:ext cx="1827000" cy="11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" descr=""/>
            <p:cNvPicPr/>
            <p:nvPr/>
          </p:nvPicPr>
          <p:blipFill>
            <a:blip r:embed="rId8"/>
            <a:stretch/>
          </p:blipFill>
          <p:spPr>
            <a:xfrm>
              <a:off x="-205740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5" descr=""/>
            <p:cNvPicPr/>
            <p:nvPr/>
          </p:nvPicPr>
          <p:blipFill>
            <a:blip r:embed="rId9"/>
            <a:stretch/>
          </p:blipFill>
          <p:spPr>
            <a:xfrm>
              <a:off x="-838080" y="5638680"/>
              <a:ext cx="37944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8" name="Group 6"/>
          <p:cNvGrpSpPr/>
          <p:nvPr/>
        </p:nvGrpSpPr>
        <p:grpSpPr>
          <a:xfrm>
            <a:off x="-2286000" y="2057400"/>
            <a:ext cx="1712880" cy="1712880"/>
            <a:chOff x="-2286000" y="2057400"/>
            <a:chExt cx="1712880" cy="1712880"/>
          </a:xfrm>
        </p:grpSpPr>
        <p:pic>
          <p:nvPicPr>
            <p:cNvPr id="1049" name="Picture 7" descr=""/>
            <p:cNvPicPr/>
            <p:nvPr/>
          </p:nvPicPr>
          <p:blipFill>
            <a:blip r:embed="rId10"/>
            <a:stretch/>
          </p:blipFill>
          <p:spPr>
            <a:xfrm>
              <a:off x="-2286000" y="205740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8" descr=""/>
            <p:cNvPicPr/>
            <p:nvPr/>
          </p:nvPicPr>
          <p:blipFill>
            <a:blip r:embed="rId11"/>
            <a:stretch/>
          </p:blipFill>
          <p:spPr>
            <a:xfrm>
              <a:off x="-2209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9" descr=""/>
            <p:cNvPicPr/>
            <p:nvPr/>
          </p:nvPicPr>
          <p:blipFill>
            <a:blip r:embed="rId12"/>
            <a:stretch/>
          </p:blipFill>
          <p:spPr>
            <a:xfrm>
              <a:off x="-1066680" y="335304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12" dur="2000" fill="hold"/>
                                        <p:tgtEl>
                                          <p:spTgt spid="10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21" dur="50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25" dur="2000" fill="hold"/>
                                        <p:tgtEl>
                                          <p:spTgt spid="10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27" dur="5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3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D4A3A-389B-430C-8BDB-E3FA88786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2"/>
          <p:cNvSpPr/>
          <p:nvPr/>
        </p:nvSpPr>
        <p:spPr>
          <a:xfrm>
            <a:off x="2622960" y="1447920"/>
            <a:ext cx="389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2216880" y="3581280"/>
            <a:ext cx="486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6" name="Picture 4" descr=""/>
          <p:cNvPicPr/>
          <p:nvPr/>
        </p:nvPicPr>
        <p:blipFill>
          <a:blip r:embed="rId1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6" descr=""/>
          <p:cNvPicPr/>
          <p:nvPr/>
        </p:nvPicPr>
        <p:blipFill>
          <a:blip r:embed="rId2"/>
          <a:stretch/>
        </p:blipFill>
        <p:spPr>
          <a:xfrm>
            <a:off x="-1378080" y="266544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6" descr=""/>
          <p:cNvPicPr/>
          <p:nvPr/>
        </p:nvPicPr>
        <p:blipFill>
          <a:blip r:embed="rId3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6" descr=""/>
          <p:cNvPicPr/>
          <p:nvPr/>
        </p:nvPicPr>
        <p:blipFill>
          <a:blip r:embed="rId4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6" descr=""/>
          <p:cNvPicPr/>
          <p:nvPr/>
        </p:nvPicPr>
        <p:blipFill>
          <a:blip r:embed="rId5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0024 L 0.31754 -0.05324 C 0.38403 -0.06527 0.48351 -0.07199 0.58733 -0.07199 C 0.70573 -0.07199 0.80035 -0.06527 0.86684 -0.05324 L 1.18473 0.00024 E">
                                      <p:cBhvr>
                                        <p:cTn id="39" dur="20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0.31718 -0.05324 C 0.38385 -0.06528 0.48316 -0.07199 0.58697 -0.07199 C 0.70538 -0.07199 0.79982 -0.06528 0.86631 -0.05324 L 1.18402 1.48148E-006 E">
                                      <p:cBhvr>
                                        <p:cTn id="48" dur="3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31718 -0.06157 C 0.38385 -0.07546 0.48316 -0.0831 0.58698 -0.0831 C 0.70521 -0.0831 0.79982 -0.07546 0.86632 -0.06157 L 1.18402 -7.40741E-007 E">
                                      <p:cBhvr>
                                        <p:cTn id="52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96296E-006 L 0.31719 -0.06157 C 0.38386 -0.07546 0.48316 -0.0831 0.58698 -0.0831 C 0.70521 -0.0831 0.79983 -0.07546 0.86632 -0.06157 L 1.18403 -2.96296E-006 E">
                                      <p:cBhvr>
                                        <p:cTn id="54" dur="3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62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A7552-8763-435B-A812-7CD7E193F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-4419720" y="2254320"/>
            <a:ext cx="4194360" cy="1312920"/>
          </a:xfrm>
          <a:prstGeom prst="rect">
            <a:avLst/>
          </a:prstGeom>
          <a:ln w="0">
            <a:noFill/>
          </a:ln>
        </p:spPr>
      </p:pic>
      <p:sp>
        <p:nvSpPr>
          <p:cNvPr id="1064" name="Text Box 3"/>
          <p:cNvSpPr/>
          <p:nvPr/>
        </p:nvSpPr>
        <p:spPr>
          <a:xfrm>
            <a:off x="2988720" y="1447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4"/>
          <p:cNvSpPr/>
          <p:nvPr/>
        </p:nvSpPr>
        <p:spPr>
          <a:xfrm>
            <a:off x="2581200" y="3581280"/>
            <a:ext cx="40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6" name="Picture 6" descr=""/>
          <p:cNvPicPr/>
          <p:nvPr/>
        </p:nvPicPr>
        <p:blipFill>
          <a:blip r:embed="rId2"/>
          <a:stretch/>
        </p:blipFill>
        <p:spPr>
          <a:xfrm>
            <a:off x="-4433760" y="223992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6" descr=""/>
          <p:cNvPicPr/>
          <p:nvPr/>
        </p:nvPicPr>
        <p:blipFill>
          <a:blip r:embed="rId3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6" descr=""/>
          <p:cNvPicPr/>
          <p:nvPr/>
        </p:nvPicPr>
        <p:blipFill>
          <a:blip r:embed="rId4"/>
          <a:stretch/>
        </p:blipFill>
        <p:spPr>
          <a:xfrm>
            <a:off x="-4419720" y="22096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6" descr=""/>
          <p:cNvPicPr/>
          <p:nvPr/>
        </p:nvPicPr>
        <p:blipFill>
          <a:blip r:embed="rId5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66" dur="2000" fill="hold"/>
                                        <p:tgtEl>
                                          <p:spTgt spid="10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75" dur="5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79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81" dur="5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632D5-8929-474D-8B6A-86D248007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3"/>
          <p:cNvSpPr/>
          <p:nvPr/>
        </p:nvSpPr>
        <p:spPr>
          <a:xfrm>
            <a:off x="2997360" y="1447920"/>
            <a:ext cx="31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4"/>
          <p:cNvSpPr/>
          <p:nvPr/>
        </p:nvSpPr>
        <p:spPr>
          <a:xfrm>
            <a:off x="2590200" y="358128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1"/>
          <a:stretch/>
        </p:blipFill>
        <p:spPr>
          <a:xfrm>
            <a:off x="-129528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2" descr=""/>
          <p:cNvPicPr/>
          <p:nvPr/>
        </p:nvPicPr>
        <p:blipFill>
          <a:blip r:embed="rId2"/>
          <a:stretch/>
        </p:blipFill>
        <p:spPr>
          <a:xfrm>
            <a:off x="-1371600" y="228600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2" descr=""/>
          <p:cNvPicPr/>
          <p:nvPr/>
        </p:nvPicPr>
        <p:blipFill>
          <a:blip r:embed="rId3"/>
          <a:stretch/>
        </p:blipFill>
        <p:spPr>
          <a:xfrm>
            <a:off x="-137160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" descr=""/>
          <p:cNvPicPr/>
          <p:nvPr/>
        </p:nvPicPr>
        <p:blipFill>
          <a:blip r:embed="rId4"/>
          <a:stretch/>
        </p:blipFill>
        <p:spPr>
          <a:xfrm>
            <a:off x="-1447920" y="2286000"/>
            <a:ext cx="110484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93" dur="2000" fill="hold"/>
                                        <p:tgtEl>
                                          <p:spTgt spid="1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2" dur="5000" fill="hold"/>
                                        <p:tgtEl>
                                          <p:spTgt spid="1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6" dur="2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8" dur="5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a science wor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r faster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79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E056D-8D9C-4522-B7E7-258530C7E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2"/>
          <p:cNvSpPr/>
          <p:nvPr/>
        </p:nvSpPr>
        <p:spPr>
          <a:xfrm>
            <a:off x="1605240" y="284328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CC77F-8F08-44DC-94A3-8062EDE73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83" name="Text Box 2"/>
          <p:cNvSpPr/>
          <p:nvPr/>
        </p:nvSpPr>
        <p:spPr>
          <a:xfrm>
            <a:off x="1969560" y="392112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4" name="Group 5"/>
          <p:cNvGrpSpPr/>
          <p:nvPr/>
        </p:nvGrpSpPr>
        <p:grpSpPr>
          <a:xfrm>
            <a:off x="-1893960" y="2143080"/>
            <a:ext cx="1712880" cy="1712880"/>
            <a:chOff x="-1893960" y="2143080"/>
            <a:chExt cx="1712880" cy="1712880"/>
          </a:xfrm>
        </p:grpSpPr>
        <p:pic>
          <p:nvPicPr>
            <p:cNvPr id="1085" name="Picture 6" descr=""/>
            <p:cNvPicPr/>
            <p:nvPr/>
          </p:nvPicPr>
          <p:blipFill>
            <a:blip r:embed="rId1"/>
            <a:stretch/>
          </p:blipFill>
          <p:spPr>
            <a:xfrm>
              <a:off x="-1893960" y="214308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Picture 7" descr=""/>
            <p:cNvPicPr/>
            <p:nvPr/>
          </p:nvPicPr>
          <p:blipFill>
            <a:blip r:embed="rId2"/>
            <a:stretch/>
          </p:blipFill>
          <p:spPr>
            <a:xfrm>
              <a:off x="-1817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8" descr=""/>
            <p:cNvPicPr/>
            <p:nvPr/>
          </p:nvPicPr>
          <p:blipFill>
            <a:blip r:embed="rId3"/>
            <a:stretch/>
          </p:blipFill>
          <p:spPr>
            <a:xfrm>
              <a:off x="-674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8" name="Text Box 9"/>
          <p:cNvSpPr/>
          <p:nvPr/>
        </p:nvSpPr>
        <p:spPr>
          <a:xfrm>
            <a:off x="1406880" y="141768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2" descr=""/>
          <p:cNvPicPr/>
          <p:nvPr/>
        </p:nvPicPr>
        <p:blipFill>
          <a:blip r:embed="rId4"/>
          <a:stretch/>
        </p:blipFill>
        <p:spPr>
          <a:xfrm>
            <a:off x="-1676520" y="4952880"/>
            <a:ext cx="1104840" cy="1138320"/>
          </a:xfrm>
          <a:prstGeom prst="rect">
            <a:avLst/>
          </a:prstGeom>
          <a:ln w="0">
            <a:noFill/>
          </a:ln>
        </p:spPr>
      </p:pic>
      <p:grpSp>
        <p:nvGrpSpPr>
          <p:cNvPr id="1090" name="Group 5"/>
          <p:cNvGrpSpPr/>
          <p:nvPr/>
        </p:nvGrpSpPr>
        <p:grpSpPr>
          <a:xfrm>
            <a:off x="-1905120" y="2173320"/>
            <a:ext cx="1712880" cy="1712880"/>
            <a:chOff x="-1905120" y="2173320"/>
            <a:chExt cx="1712880" cy="1712880"/>
          </a:xfrm>
        </p:grpSpPr>
        <p:pic>
          <p:nvPicPr>
            <p:cNvPr id="1091" name="Picture 6" descr=""/>
            <p:cNvPicPr/>
            <p:nvPr/>
          </p:nvPicPr>
          <p:blipFill>
            <a:blip r:embed="rId5"/>
            <a:stretch/>
          </p:blipFill>
          <p:spPr>
            <a:xfrm>
              <a:off x="-1905120" y="217332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Picture 7" descr=""/>
            <p:cNvPicPr/>
            <p:nvPr/>
          </p:nvPicPr>
          <p:blipFill>
            <a:blip r:embed="rId6"/>
            <a:stretch/>
          </p:blipFill>
          <p:spPr>
            <a:xfrm>
              <a:off x="-1828800" y="346860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Picture 8" descr=""/>
            <p:cNvPicPr/>
            <p:nvPr/>
          </p:nvPicPr>
          <p:blipFill>
            <a:blip r:embed="rId7"/>
            <a:stretch/>
          </p:blipFill>
          <p:spPr>
            <a:xfrm>
              <a:off x="-685800" y="346860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4" name="Picture 2" descr=""/>
          <p:cNvPicPr/>
          <p:nvPr/>
        </p:nvPicPr>
        <p:blipFill>
          <a:blip r:embed="rId8"/>
          <a:stretch/>
        </p:blipFill>
        <p:spPr>
          <a:xfrm>
            <a:off x="-1714680" y="5033880"/>
            <a:ext cx="110520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48148E-006 L 1.25504 -0.01505 E">
                                      <p:cBhvr>
                                        <p:cTn id="133" dur="2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1.24792 -0.00509 E">
                                      <p:cBhvr>
                                        <p:cTn id="140" dur="2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1111 L 1.25416 -0.02477 E">
                                      <p:cBhvr>
                                        <p:cTn id="144" dur="2000" fill="hold"/>
                                        <p:tgtEl>
                                          <p:spTgt spid="10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1111 L 1.2566 -0.01481 E">
                                      <p:cBhvr>
                                        <p:cTn id="146" dur="2000" fill="hold"/>
                                        <p:tgtEl>
                                          <p:spTgt spid="10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D2E21-D02F-4C1A-9F38-2079961BE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7" name="Text Box 2"/>
          <p:cNvSpPr/>
          <p:nvPr/>
        </p:nvSpPr>
        <p:spPr>
          <a:xfrm>
            <a:off x="2947320" y="3887640"/>
            <a:ext cx="41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at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9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2" descr=""/>
          <p:cNvPicPr/>
          <p:nvPr/>
        </p:nvPicPr>
        <p:blipFill>
          <a:blip r:embed="rId2"/>
          <a:stretch/>
        </p:blipFill>
        <p:spPr>
          <a:xfrm>
            <a:off x="-1523880" y="4957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6" descr=""/>
          <p:cNvPicPr/>
          <p:nvPr/>
        </p:nvPicPr>
        <p:blipFill>
          <a:blip r:embed="rId3"/>
          <a:stretch/>
        </p:blipFill>
        <p:spPr>
          <a:xfrm>
            <a:off x="-4419720" y="22780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6" descr=""/>
          <p:cNvPicPr/>
          <p:nvPr/>
        </p:nvPicPr>
        <p:blipFill>
          <a:blip r:embed="rId4"/>
          <a:stretch/>
        </p:blipFill>
        <p:spPr>
          <a:xfrm>
            <a:off x="-4419720" y="2268360"/>
            <a:ext cx="4194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2.22222E-006 L 1.68732 -0.00556 E">
                                      <p:cBhvr>
                                        <p:cTn id="158" dur="5000" fill="hold"/>
                                        <p:tgtEl>
                                          <p:spTgt spid="1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67" dur="5000" fill="hold"/>
                                        <p:tgtEl>
                                          <p:spTgt spid="10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0.0044 L 1.68732 0.0088 E">
                                      <p:cBhvr>
                                        <p:cTn id="171" dur="5000" fill="hold"/>
                                        <p:tgtEl>
                                          <p:spTgt spid="1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1.47014 -0.01343 E">
                                      <p:cBhvr>
                                        <p:cTn id="173" dur="5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1680" y="75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is a sciene name f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“heavy” ?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04" name="Slide Number Placeholder 5"/>
          <p:cNvSpPr/>
          <p:nvPr/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394AE-49F8-49CD-870A-DC9C864FE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"/>
          <p:cNvSpPr/>
          <p:nvPr/>
        </p:nvSpPr>
        <p:spPr>
          <a:xfrm>
            <a:off x="2748240" y="283212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5:58:28Z</dcterms:created>
  <dc:creator>Joe Afflerbach</dc:creator>
  <dc:description/>
  <dc:language>en-US</dc:language>
  <cp:lastModifiedBy>Afflerbach, Joe</cp:lastModifiedBy>
  <dcterms:modified xsi:type="dcterms:W3CDTF">2015-03-24T15:56:10Z</dcterms:modified>
  <cp:revision>23</cp:revision>
  <dc:subject/>
  <dc:title>Chapter 6   Momentum and Collisions</dc:title>
</cp:coreProperties>
</file>